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lbertus Extra Bold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lbertus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88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XBdCn BT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Humanst521 XBdCn BT"/>
            </a:endParaRPr>
          </a:p>
          <a:p>
            <a:pPr lvl="1" marL="741240" indent="-284040">
              <a:lnSpc>
                <a:spcPct val="105000"/>
              </a:lnSpc>
              <a:spcBef>
                <a:spcPts val="68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umanst521 XBdCn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umanst521 XBdCn BT"/>
            </a:endParaRPr>
          </a:p>
          <a:p>
            <a:pPr lvl="2" marL="1143000" indent="-228600">
              <a:lnSpc>
                <a:spcPct val="105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XBdCn B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Humanst521 XBdCn BT"/>
            </a:endParaRPr>
          </a:p>
          <a:p>
            <a:pPr lvl="3" marL="1600200" indent="-228600">
              <a:lnSpc>
                <a:spcPct val="105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umanst521 XBdCn B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Humanst521 XBdCn BT"/>
            </a:endParaRPr>
          </a:p>
          <a:p>
            <a:pPr lvl="4" marL="2057400" indent="-228600">
              <a:lnSpc>
                <a:spcPct val="105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umanst521 XBdCn B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Humanst521 XBdCn B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umanst521 XBdCn B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Humanst521 XBdCn B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umanst521 XBdCn B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Humanst521 XBdCn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9080" y="682560"/>
            <a:ext cx="7305840" cy="136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700" spc="-1" strike="noStrike">
                <a:solidFill>
                  <a:srgbClr val="f4d597"/>
                </a:solidFill>
                <a:latin typeface="Albertus Extra Bold"/>
              </a:rPr>
              <a:t>Fitoquímicos y antioxidant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7560" y="225360"/>
            <a:ext cx="8285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Blanco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Cebolla                        Evita Coág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Ajo    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ORGANO-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Antibió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         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SULFIDOS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Baja T. Ar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 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Baja Colest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00" y="2484360"/>
            <a:ext cx="9045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cc"/>
                </a:solidFill>
                <a:latin typeface="AvantGarde Md BT"/>
              </a:rPr>
              <a:t>Azul /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Mora  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 RESVERATROL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Antioxid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cc"/>
                </a:solidFill>
                <a:latin typeface="AvantGarde Md BT"/>
              </a:rPr>
              <a:t>Morado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Cebolla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QUERSECTINAS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Enf. Coraz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Berenjena</a:t>
            </a:r>
            <a:r>
              <a:rPr b="0" lang="es-ES" sz="3600" spc="-1" strike="noStrike">
                <a:solidFill>
                  <a:srgbClr val="6600cc"/>
                </a:solidFill>
                <a:latin typeface="AvantGarde Md BT"/>
              </a:rPr>
              <a:t>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Baja T. ar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       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Benef. Cereb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680" y="4846680"/>
            <a:ext cx="86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AvantGarde Md BT"/>
              </a:rPr>
              <a:t>Marrón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Linasa                          Balance Horm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Trigo  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LIGNANOS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CA Col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Maní                            Baja Glucosa sang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Ajonjolí                         Antiinflamatori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3962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83880" y="152280"/>
            <a:ext cx="43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9933"/>
                </a:solidFill>
                <a:latin typeface="AvantGarde Md BT"/>
              </a:rPr>
              <a:t>REQUISITO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06000" y="52578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vantGarde Md BT"/>
              </a:rPr>
              <a:t>Se cosechen madu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1800" y="5987880"/>
            <a:ext cx="60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7c80"/>
                </a:solidFill>
                <a:latin typeface="AvantGarde Md BT"/>
              </a:rPr>
              <a:t>Cuánto?   9 porciones al d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751200" y="593640"/>
            <a:ext cx="4935600" cy="193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r"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100" spc="-1" strike="noStrike">
                <a:solidFill>
                  <a:srgbClr val="000000"/>
                </a:solidFill>
                <a:latin typeface="Humanst521 XBdCn BT"/>
              </a:rPr>
              <a:t>Antioxidantes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76320"/>
            <a:ext cx="7481880" cy="1291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Humanst521 XBdCn BT"/>
              </a:rPr>
              <a:t>Es una Func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8200" y="5057640"/>
            <a:ext cx="29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33"/>
                </a:solidFill>
                <a:latin typeface="AvantGarde Md BT"/>
              </a:rPr>
              <a:t>Fitoquím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33"/>
                </a:solidFill>
                <a:latin typeface="AvantGarde Md BT"/>
              </a:rPr>
              <a:t>Vitami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19680" y="5124600"/>
            <a:ext cx="479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7c80"/>
                </a:solidFill>
                <a:latin typeface="AvantGarde Md BT"/>
              </a:rPr>
              <a:t>Neutraliza los Radic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7c80"/>
                </a:solidFill>
                <a:latin typeface="AvantGarde Md BT"/>
              </a:rPr>
              <a:t>li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19080" y="5516640"/>
            <a:ext cx="7988400" cy="758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3d8ab"/>
                </a:solidFill>
                <a:latin typeface="Humanst521 XBdCn BT"/>
              </a:rPr>
              <a:t>¿Cuáles son los beneficios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3429000" cy="3810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9000" y="426960"/>
            <a:ext cx="822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vantGarde Md BT"/>
              </a:rPr>
              <a:t>1º Protege nuestr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vantGarde Md BT"/>
              </a:rPr>
              <a:t>código genético AD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vantGarde Md BT"/>
              </a:rPr>
              <a:t>2º Evitan las mutacion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vantGarde Md BT"/>
              </a:rPr>
              <a:t>     </a:t>
            </a:r>
            <a:r>
              <a:rPr b="0" lang="es-ES" sz="3600" spc="-1" strike="noStrike">
                <a:solidFill>
                  <a:srgbClr val="ffffff"/>
                </a:solidFill>
                <a:latin typeface="AvantGarde Md BT"/>
              </a:rPr>
              <a:t>evita el Cánc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vantGarde Md BT"/>
              </a:rPr>
              <a:t>3º Desintoxica nuestros cuerpos de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vantGarde Md BT"/>
              </a:rPr>
              <a:t>     </a:t>
            </a:r>
            <a:r>
              <a:rPr b="0" lang="es-ES" sz="3600" spc="-1" strike="noStrike">
                <a:solidFill>
                  <a:srgbClr val="ffffff"/>
                </a:solidFill>
                <a:latin typeface="AvantGarde Md BT"/>
              </a:rPr>
              <a:t>contaminación ambie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vantGarde Md BT"/>
              </a:rPr>
              <a:t>4º Fortalece el Sist. Inmunológ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9080" y="563400"/>
            <a:ext cx="6243840" cy="91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3d8ab"/>
                </a:solidFill>
                <a:latin typeface="Humanst521 XBdCn BT"/>
              </a:rPr>
              <a:t>Radicales libres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1480" y="1917720"/>
            <a:ext cx="4378320" cy="4705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Cáncer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Enfermedades </a:t>
            </a:r>
            <a:br>
              <a:rPr sz="3900"/>
            </a:b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del coraz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Envejecimiento prematur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Catarata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Diabet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Artriti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68960" y="5464080"/>
            <a:ext cx="2106720" cy="758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3d8ab"/>
                </a:solidFill>
                <a:latin typeface="Humanst521 XBdCn BT"/>
              </a:rPr>
              <a:t>Cánc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40120" y="4259160"/>
            <a:ext cx="3340080" cy="199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Humanst521 XBdCn BT"/>
              </a:rPr>
              <a:t>50%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menos cáncer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9080" y="598320"/>
            <a:ext cx="7242120" cy="758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3d8ab"/>
                </a:solidFill>
                <a:latin typeface="Humanst521 XBdCn BT"/>
              </a:rPr>
              <a:t>¿Qué son los fitoquímicos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19080" y="531720"/>
            <a:ext cx="6234120" cy="758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3d8ab"/>
                </a:solidFill>
                <a:latin typeface="Humanst521 XBdCn BT"/>
              </a:rPr>
              <a:t>Se reduce el riesgo 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30320" y="1284120"/>
            <a:ext cx="5265720" cy="235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Enfermedades </a:t>
            </a:r>
            <a:br>
              <a:rPr sz="3900"/>
            </a:b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del coraz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Diabetes tipo II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Hipertens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4720" y="682560"/>
            <a:ext cx="2877840" cy="758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3d8ab"/>
                </a:solidFill>
                <a:latin typeface="Humanst521 XBdCn BT"/>
              </a:rPr>
              <a:t>Soy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4200" y="531720"/>
            <a:ext cx="3025800" cy="303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Mam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Col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Rec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Pulm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SzPct val="90000"/>
              <a:buFont typeface="Humanst521 XBdCn B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Estómag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11240" y="194940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6699"/>
                </a:solidFill>
                <a:latin typeface="AvantGarde Md BT"/>
              </a:rPr>
              <a:t>Fitoestr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9080" y="577800"/>
            <a:ext cx="4488120" cy="1443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3d8ab"/>
                </a:solidFill>
                <a:latin typeface="Humanst521 XBdCn BT"/>
              </a:rPr>
              <a:t>Granos integral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19080" y="682560"/>
            <a:ext cx="3778200" cy="68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3d8ab"/>
                </a:solidFill>
                <a:latin typeface="Humanst521 XBdCn BT"/>
              </a:rPr>
              <a:t>Grano de tr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7160" y="682560"/>
            <a:ext cx="3587760" cy="1291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anchorCtr="1">
            <a:spAutoFit/>
          </a:bodyPr>
          <a:p>
            <a:pPr algn="ctr"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3d8ab"/>
                </a:solidFill>
                <a:latin typeface="Humanst521 XBdCn BT"/>
              </a:rPr>
              <a:t>Grano de arro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2960" y="2779560"/>
            <a:ext cx="2201760" cy="66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Salvad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92600" y="4356000"/>
            <a:ext cx="2363760" cy="1261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Germe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3640" y="4730760"/>
            <a:ext cx="1441440" cy="349200"/>
          </a:xfrm>
          <a:prstGeom prst="line">
            <a:avLst/>
          </a:prstGeom>
          <a:ln w="28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879640" y="4727160"/>
            <a:ext cx="812880" cy="725400"/>
          </a:xfrm>
          <a:prstGeom prst="line">
            <a:avLst/>
          </a:prstGeom>
          <a:ln w="28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09960" y="3153960"/>
            <a:ext cx="799920" cy="722520"/>
          </a:xfrm>
          <a:prstGeom prst="line">
            <a:avLst/>
          </a:prstGeom>
          <a:ln w="28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2480" y="3157560"/>
            <a:ext cx="625320" cy="289080"/>
          </a:xfrm>
          <a:prstGeom prst="line">
            <a:avLst/>
          </a:prstGeom>
          <a:ln w="28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60840" y="5383080"/>
            <a:ext cx="5464080" cy="834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Humanst521 XBdCn BT"/>
              </a:rPr>
              <a:t>Amplia varieda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9080" y="5408640"/>
            <a:ext cx="7213680" cy="758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3d8ab"/>
                </a:solidFill>
                <a:latin typeface="Humanst521 XBdCn BT"/>
              </a:rPr>
              <a:t>¿Tomar suplementos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5361120"/>
            <a:ext cx="5199120" cy="66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Humanst521 XBdCn BT"/>
              </a:rPr>
              <a:t>10.000 fitoquímico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2743200"/>
            <a:ext cx="6319800" cy="3729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Humanst521 XBdCn BT"/>
              </a:rPr>
              <a:t>Son sustan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Humanst521 XBdCn BT"/>
              </a:rPr>
              <a:t>químcas, presentes en l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Humanst521 XBdCn BT"/>
              </a:rPr>
              <a:t>plant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2765520" y="0"/>
            <a:ext cx="6378480" cy="6858000"/>
            <a:chOff x="2765520" y="0"/>
            <a:chExt cx="6378480" cy="685800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765520" y="0"/>
              <a:ext cx="6378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314880" y="527040"/>
              <a:ext cx="5021280" cy="60159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304920" indent="-304920">
                <a:lnSpc>
                  <a:spcPct val="100000"/>
                </a:lnSpc>
                <a:tabLst>
                  <a:tab algn="l" pos="0"/>
                  <a:tab algn="l" pos="1219320"/>
                  <a:tab algn="l" pos="2133720"/>
                  <a:tab algn="l" pos="3048120"/>
                  <a:tab algn="l" pos="3962520"/>
                  <a:tab algn="l" pos="4876920"/>
                  <a:tab algn="l" pos="5791320"/>
                  <a:tab algn="l" pos="6705720"/>
                  <a:tab algn="l" pos="7620120"/>
                  <a:tab algn="l" pos="8534520"/>
                  <a:tab algn="l" pos="9448920"/>
                  <a:tab algn="l" pos="10363320"/>
                </a:tabLst>
              </a:pPr>
              <a:r>
                <a:rPr b="0" lang="en-GB" sz="3900" spc="-1" strike="noStrike">
                  <a:solidFill>
                    <a:srgbClr val="ffffff"/>
                  </a:solidFill>
                  <a:latin typeface="Humanst521 XBdCn BT"/>
                </a:rPr>
                <a:t>“</a:t>
              </a:r>
              <a:r>
                <a:rPr b="0" lang="en-GB" sz="3900" spc="-1" strike="noStrike">
                  <a:solidFill>
                    <a:srgbClr val="ffffff"/>
                  </a:solidFill>
                  <a:latin typeface="Humanst521 XBdCn BT"/>
                </a:rPr>
                <a:t>Y dijo Dios: He aquí os he dado toda planta que da semilla, que está sobre toda la tierra, y todo árbol en que hay fruto, y que da semilla; os serán para comer.”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04920" indent="-304920">
                <a:lnSpc>
                  <a:spcPct val="100000"/>
                </a:lnSpc>
                <a:tabLst>
                  <a:tab algn="l" pos="0"/>
                  <a:tab algn="l" pos="1219320"/>
                  <a:tab algn="l" pos="2133720"/>
                  <a:tab algn="l" pos="3048120"/>
                  <a:tab algn="l" pos="3962520"/>
                  <a:tab algn="l" pos="4876920"/>
                  <a:tab algn="l" pos="5791320"/>
                  <a:tab algn="l" pos="6705720"/>
                  <a:tab algn="l" pos="7620120"/>
                  <a:tab algn="l" pos="8534520"/>
                  <a:tab algn="l" pos="9448920"/>
                  <a:tab algn="l" pos="10363320"/>
                </a:tabLst>
              </a:pPr>
              <a:r>
                <a:rPr b="0" lang="en-GB" sz="3900" spc="-1" strike="noStrike">
                  <a:solidFill>
                    <a:srgbClr val="ffffff"/>
                  </a:solidFill>
                  <a:latin typeface="Humanst521 XBdCn BT"/>
                </a:rPr>
                <a:t>      </a:t>
              </a:r>
              <a:r>
                <a:rPr b="0" lang="en-GB" sz="3900" spc="-1" strike="noStrike">
                  <a:solidFill>
                    <a:srgbClr val="ffffff"/>
                  </a:solidFill>
                  <a:latin typeface="Humanst521 XBdCn BT"/>
                </a:rPr>
                <a:t>Génesis 1:29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46800" y="5275440"/>
              <a:ext cx="3227400" cy="5601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3504960" cy="2590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294800" y="212760"/>
            <a:ext cx="461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3399"/>
                </a:solidFill>
                <a:latin typeface="AvantGarde Md BT"/>
              </a:rPr>
              <a:t>Funciones: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765440"/>
            <a:ext cx="495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</a:t>
            </a:r>
            <a:r>
              <a:rPr b="0" lang="es-ES" sz="4000" spc="-1" strike="noStrike">
                <a:solidFill>
                  <a:srgbClr val="ff3399"/>
                </a:solidFill>
                <a:latin typeface="AvantGarde Md BT"/>
              </a:rPr>
              <a:t>1º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Dan el Color y 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     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Sabor a las            frutas  y veget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7480" y="4708440"/>
            <a:ext cx="764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99"/>
                </a:solidFill>
                <a:latin typeface="AvantGarde Md BT"/>
              </a:rPr>
              <a:t>2º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Protegen a las plantas de 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    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rayos Ultraviolet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35049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49400" y="530280"/>
            <a:ext cx="5348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99"/>
                </a:solidFill>
                <a:latin typeface="AvantGarde Md BT"/>
              </a:rPr>
              <a:t>3º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Ayudan a 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plantas a combat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las infec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causadas p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hongos, bacterias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vir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640" y="4784760"/>
            <a:ext cx="90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99"/>
                </a:solidFill>
                <a:latin typeface="AvantGarde Md BT"/>
              </a:rPr>
              <a:t>4º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Ayudan a superar las inclem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de su entorno: insectos, animale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sequías, radiaciones,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9160" y="-19080"/>
            <a:ext cx="585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9900"/>
                </a:solidFill>
                <a:latin typeface="AvantGarde Md BT"/>
              </a:rPr>
              <a:t>AL COMERLAS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9000" y="2023920"/>
            <a:ext cx="315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6699"/>
                </a:solidFill>
                <a:latin typeface="Comic Sans MS"/>
              </a:rPr>
              <a:t>Infeccio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6699"/>
                </a:solidFill>
                <a:latin typeface="Comic Sans MS"/>
              </a:rPr>
              <a:t>-Ultraviolet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6699"/>
                </a:solidFill>
                <a:latin typeface="Comic Sans MS"/>
              </a:rPr>
              <a:t>-Entor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579096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2960" y="606600"/>
            <a:ext cx="3832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Cada fru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o veget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cont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vantGarde Md BT"/>
              </a:rPr>
              <a:t>aprox. </a:t>
            </a:r>
            <a:r>
              <a:rPr b="0" lang="es-ES" sz="4800" spc="-1" strike="noStrike">
                <a:solidFill>
                  <a:srgbClr val="ff3399"/>
                </a:solidFill>
                <a:latin typeface="AvantGarde Md BT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9999"/>
                </a:solidFill>
                <a:latin typeface="AvantGarde Md BT"/>
              </a:rPr>
              <a:t>Fitoquím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vantGarde Md BT"/>
              </a:rPr>
              <a:t>diferen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7320" y="5638680"/>
            <a:ext cx="874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99"/>
                </a:solidFill>
                <a:latin typeface="AvantGarde Md BT"/>
              </a:rPr>
              <a:t>Se han clasificado en </a:t>
            </a:r>
            <a:r>
              <a:rPr b="0" lang="es-ES" sz="4400" spc="-1" strike="noStrike">
                <a:solidFill>
                  <a:srgbClr val="ffffff"/>
                </a:solidFill>
                <a:latin typeface="AvantGarde Md BT"/>
              </a:rPr>
              <a:t>9</a:t>
            </a:r>
            <a:r>
              <a:rPr b="0" lang="es-ES" sz="4400" spc="-1" strike="noStrike">
                <a:solidFill>
                  <a:srgbClr val="ff3399"/>
                </a:solidFill>
                <a:latin typeface="AvantGarde Md BT"/>
              </a:rPr>
              <a:t> COL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0240" y="351000"/>
            <a:ext cx="8494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vantGarde Md BT"/>
              </a:rPr>
              <a:t>Rojo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Patilla                                     CA Prósta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Tomate                                         m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Guayaba   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LICOPENO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Enf. Coraz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Toronja Roja                           embellece pi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6640" y="2560680"/>
            <a:ext cx="893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33"/>
                </a:solidFill>
                <a:latin typeface="AvantGarde Md BT"/>
              </a:rPr>
              <a:t>Rojo /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Uvas                                    Evita – coág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33"/>
                </a:solidFill>
                <a:latin typeface="AvantGarde Md BT"/>
              </a:rPr>
              <a:t>Morado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Manzanas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FLAVONOIDES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Enf. Coraz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Ciruelas                               I A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F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40" y="4618080"/>
            <a:ext cx="8983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6600"/>
                </a:solidFill>
                <a:latin typeface="AvantGarde Md BT"/>
              </a:rPr>
              <a:t>Anaranjado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Antioxid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6600"/>
                </a:solidFill>
                <a:latin typeface="AvantGarde Md BT"/>
              </a:rPr>
              <a:t>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Mango 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ALFA-CAROTENO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CA Pulm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Zanahoria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BETA-CAROT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Ahuy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63520" y="198360"/>
            <a:ext cx="973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33"/>
                </a:solidFill>
                <a:latin typeface="AvantGarde Md BT"/>
              </a:rPr>
              <a:t>Anaranjado /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Mandarinas                          Ulceras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33"/>
                </a:solidFill>
                <a:latin typeface="AvantGarde Md BT"/>
              </a:rPr>
              <a:t>Amarillo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Lechosa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CRIPTOXANTINAS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Colest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Naranja    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TERPENOS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62280" y="1951200"/>
            <a:ext cx="9154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cc00"/>
                </a:solidFill>
                <a:latin typeface="AvantGarde Md BT"/>
              </a:rPr>
              <a:t>Amarillo /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Espinaca</a:t>
            </a:r>
            <a:r>
              <a:rPr b="0" lang="es-ES" sz="3600" spc="-1" strike="noStrike">
                <a:solidFill>
                  <a:srgbClr val="99cc00"/>
                </a:solidFill>
                <a:latin typeface="AvantGarde Md BT"/>
              </a:rPr>
              <a:t>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Protege Re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cc00"/>
                </a:solidFill>
                <a:latin typeface="AvantGarde Md BT"/>
              </a:rPr>
              <a:t>Verde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Maíz        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LUTEINAS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Catara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Arvejas  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ZEAXANTINAS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De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Aguacate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CAROTENOS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de Mác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Mel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" y="4387680"/>
            <a:ext cx="919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00"/>
                </a:solidFill>
                <a:latin typeface="AvantGarde Md BT"/>
              </a:rPr>
              <a:t>Verde </a:t>
            </a:r>
            <a:r>
              <a:rPr b="0" lang="es-ES" sz="3600" spc="-1" strike="noStrike">
                <a:solidFill>
                  <a:srgbClr val="008000"/>
                </a:solidFill>
                <a:latin typeface="AvantGarde Md BT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Brócoli                             Inactiva Estróge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Coliflor      </a:t>
            </a:r>
            <a:r>
              <a:rPr b="0" lang="es-ES" sz="2800" spc="-1" strike="noStrike">
                <a:solidFill>
                  <a:srgbClr val="66ff66"/>
                </a:solidFill>
                <a:latin typeface="AvantGarde Md BT"/>
              </a:rPr>
              <a:t>SULFORANOS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CA mama, próstat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Lechuga                                ov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                </a:t>
            </a:r>
            <a:r>
              <a:rPr b="0" lang="es-ES" sz="2800" spc="-1" strike="noStrike">
                <a:solidFill>
                  <a:srgbClr val="ffffff"/>
                </a:solidFill>
                <a:latin typeface="AvantGarde Md BT"/>
              </a:rPr>
              <a:t>Kiwi                                   Alivia ansie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taola</cp:lastModifiedBy>
  <dcterms:modified xsi:type="dcterms:W3CDTF">1990-01-21T08:07:48Z</dcterms:modified>
  <cp:revision>26</cp:revision>
  <dc:subject/>
  <dc:title>PowerPoint Presentation</dc:title>
</cp:coreProperties>
</file>